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481-8836-4250-9F40-A83AA2CF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990-6E75-4505-9E75-67E896F3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F86-9D6E-48A5-B878-D7A07A1F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2EB-A448-46BD-824E-D3585A7D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30F5-2A9C-4A43-A61D-9320823A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ABD3-0F9E-4AED-AFF3-D560F7F6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04B4-6AAF-4061-A577-98AA9B66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E627-30C2-4C44-A1E7-E7B982E8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CB6D-64D6-4D39-9B31-CFE703B9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C968-8E46-4451-A35A-72615B82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51AE-A718-46F8-BE9E-E027189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7CD-7FA1-4D43-89E0-DE9BD782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BEF-3D62-4BA3-BF58-FB050323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D56B-C90A-4C0B-AD08-5D399EA0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91B1-ED55-4750-8634-157F41EB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079A-CB97-4C64-BB86-50E31CDD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41DB-5CFD-4395-83E9-56F5A56F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9B1-903E-4981-9C44-9188A91B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A88-8D02-4A04-811B-D556D24C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630-723A-41F1-AA27-2877CA97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FD6-F9AE-4B13-AA1A-DD12E5FF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00D-A79A-4329-944D-B94338B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534-677D-445E-9285-0384209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D7A-C0A2-4E5F-B7B5-F5478EAC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A98C-0221-4662-8153-2AE85997D6EB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54FD-0281-44F9-AC1C-3A26B2BB2333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5d2204"/>
                </a:solidFill>
                <a:latin typeface="Arial"/>
              </a:rPr>
              <a:t>Tom Sawyer</a:t>
            </a:r>
            <a:endParaRPr b="1" lang="en-US" sz="75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d2204"/>
                </a:solidFill>
                <a:latin typeface="Arial"/>
              </a:rPr>
              <a:t>Vocabulary </a:t>
            </a:r>
            <a:endParaRPr b="0" lang="en-US" sz="75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d2204"/>
                </a:solidFill>
                <a:latin typeface="Arial"/>
              </a:rPr>
              <a:t>Chapters 1-10</a:t>
            </a:r>
            <a:endParaRPr b="0" lang="en-US" sz="75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Anatomy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The study of the body (p. 15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Apprehensively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Cautiously (pg. 56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Despair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Hopelessness (pg. 50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Loathe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To hate (pg. 4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Perplexed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Confused (pg. 16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Reluctance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Hesitation (pg. 11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Turmoil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Uproar (pg. 39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Wily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Sly (pg. 24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1:20:05Z</dcterms:created>
  <dc:creator>Plantation Middle School</dc:creator>
  <dc:description/>
  <dc:language>en-US</dc:language>
  <cp:lastModifiedBy>Plantation Middle School</cp:lastModifiedBy>
  <dcterms:modified xsi:type="dcterms:W3CDTF">2009-10-23T11:30:16Z</dcterms:modified>
  <cp:revision>1</cp:revision>
  <dc:subject/>
  <dc:title>Tom Sawyer</dc:title>
</cp:coreProperties>
</file>